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suction.wav" ContentType="audio/x-wav"/>
  <Override PartName="/ppt/media/image4.jpeg" ContentType="image/jpeg"/>
  <Override PartName="/ppt/media/image2.png" ContentType="image/png"/>
  <Override PartName="/ppt/media/image8.jpeg" ContentType="image/jpeg"/>
  <Override PartName="/ppt/media/image10.jpeg" ContentType="image/jpeg"/>
  <Override PartName="/ppt/media/whoosh.wav" ContentType="audio/x-wav"/>
  <Override PartName="/ppt/media/explode.wav" ContentType="audio/x-wav"/>
  <Override PartName="/ppt/media/image7.jpeg" ContentType="image/jpeg"/>
  <Override PartName="/ppt/media/image6.png" ContentType="image/png"/>
  <Override PartName="/ppt/media/drumroll.wav" ContentType="audio/x-wav"/>
  <Override PartName="/ppt/media/image5.jpeg" ContentType="image/jpeg"/>
  <Override PartName="/ppt/media/laser.wav" ContentType="audio/x-wav"/>
  <Override PartName="/ppt/media/image3.png" ContentType="image/png"/>
  <Override PartName="/ppt/media/image1.png" ContentType="image/png"/>
  <Override PartName="/ppt/media/applause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6.jpeg" ContentType="image/jpeg"/>
  <Override PartName="/ppt/media/wind.wav" ContentType="audio/x-wav"/>
  <Override PartName="/ppt/media/hammer.wav" ContentType="audio/x-wav"/>
  <Override PartName="/ppt/media/cashreg.wav" ContentType="audio/x-wav"/>
  <Override PartName="/ppt/media/image12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8FF-2DEA-4BC1-AE69-4411CA02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F18-59E2-4306-8B8C-D06FD55E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A2C8D-AFEA-4EC7-9907-A89FA5E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03E2-5CF3-48B0-8EE3-4A0BABF2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78B88-BD90-4BCC-A013-21DC27B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A730A-ED73-4CA1-A599-2EA1CE3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A965C-3DD8-4866-9485-42BA25C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5AD7-93D8-4910-8CEB-F5D6C55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06A00-25B2-4A8F-A485-A4E4D7AA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F95B-61DE-498E-BE46-82F15AFA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B1837-4C69-415E-BF48-415FA40D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D1A7E-6C49-4F47-930B-24C235F8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74F-E24A-4485-9588-BB8BF307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C831E-7A82-45A1-B1A4-CE41B434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E9EE7-139B-4FB8-BC16-C2FD0B2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F1856-521C-4945-91F9-2010655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C33F-13F8-444B-9905-3AC9EDA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2A922-5B3B-402E-BF0D-EECA9CA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230B1-46A8-4A86-B92B-D55F64F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4C1BB-6D29-4558-A58A-EE58BF2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3C984-1C1E-4C03-BAF1-EF1E74C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063C-240A-41C8-8449-792E2748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06BD-27ED-43B3-A3C9-E9EA345D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E99-8417-4DF4-984E-22E23C95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1042-8C92-4146-B392-9AE43956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59A00-618D-40B9-9E74-FD7D180D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E935A-5BBD-482B-B7E3-9F3AF56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1723-F0EE-464D-98B5-391C2CDC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D011C-6E35-44C3-A2C9-DD50652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3826A-C6BB-4505-965E-AFA941C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69D2A-A096-4EEC-AA14-0C9E069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88DB1-894F-49FF-819D-A1942CE7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5A8E2-7DBF-4AB9-A25C-F40CEA4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E2F9A-ED4A-4B38-ACCE-1C93C8D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2D1-1C48-4380-86BD-0CDB9652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0D3D9-8F30-41FF-A540-DCE0489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4271B-1F61-4000-A9F0-DE721373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0BA82-159B-4BD0-9032-9E77B812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52926-6B6C-4533-8C86-3250781E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5B351-EBE0-4B21-9343-4EE37A3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A9F51-5D59-4E14-A059-446C031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2AA4A-8119-4FE8-A018-EC044F7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AFD05-419A-427B-8830-2EBA672F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33D77-DA43-4C75-8FA4-A9AA1551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11F83-544A-4610-B106-ABAC8315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CB6-78E0-4E42-B01E-FB6B87D0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58ACD-BD96-4F25-8642-5D4065D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712C7-CA24-4A80-AA94-6160345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61EFE-6DD0-4811-92EF-4A85205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9FDDD-4C5E-466B-B72C-2602909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A4FDA-6FD9-46C8-AF5C-41E13A38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5263F-F3AA-41D8-94F2-C4AAAA5A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DE56E-E0CD-463E-AD5E-0D81F71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1A614-BC4C-4C4E-86AE-2B422B06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47616-E148-4C56-A67E-6C88F93F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E7782-60CB-4ECD-938A-E6E416A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6099-3EF3-4C84-B239-2280471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ECF54-7C56-4A81-AAF1-5C73D302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C73A3-B6C4-45D0-893E-AB79460A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977C3-410E-44BD-A49E-0B1F450D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0B120-DD3D-4913-A0DC-03C0F09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B79D2-E157-429C-90B3-A307A79D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2EF7B-D933-44A8-9D7A-91D6EF9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6BE8A-2F1F-4D82-BA17-6B8E0668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9E13D-E55E-4CBC-A13A-5C9E8EC7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D5B8D-47C5-4CE0-925F-95FA40C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C350A-0803-42DD-85F4-0661771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96A8-552E-470C-A0CD-16484EEA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585E6-CD92-45EA-9997-506C4566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606E5-837E-4B24-A05B-FF61331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A2F8E-F367-4B10-B22A-75B0996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76E0F-5763-482C-9DE0-12A5C07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36C76-2B4E-4B0A-9D90-B3328BFA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48096-1B08-4463-AA01-3BEFA29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98182-4EB4-4B8F-834A-3AEE27C1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B2C44-AB6A-4F6B-9575-43DB1039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0D0AA-2BED-4813-9819-A828B864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6121C-60E0-4E06-96EB-8675CA14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A34-2392-4EE2-A2B5-C25DC32F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29812-1A44-4091-AD54-D79FBB9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1DF1A-8D7A-4A2E-83E4-E77A4AE7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9B6A4-C4D3-4A9D-8CB3-6F37FDED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B6FE0-C7D6-4ECB-9248-5756500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99B29-0648-40C4-B51B-7A57B5F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B5721-B831-4E46-8993-DB50141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FEAE5-6B46-436B-9072-DAD4D19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C23CC-FD0F-41DB-801F-5DCB752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A2947-C956-4BDA-B419-1A77AF7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98912-A186-4A47-AEFA-D7D9D12C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F7D9-6E1E-4537-B8B4-5109EED9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1C256-9A94-4711-BD83-A5A18EA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CE81D-A7E3-4329-BB1A-754BFBFB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49A6D-AF97-416D-BC37-76B6BD42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17EB7-3D31-4F91-9215-C335F2F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3079E-624B-4DEC-9A1B-4BD6452A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9C761-D509-4D55-80D1-E215E84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ADDFE-9226-4D37-BAC6-B8E3247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99660-0191-4D3C-9351-C8208A0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2DF4A-022A-4A5F-B9AC-4C9851A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B0B84-8178-414A-B2F6-C636F41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0E98-3F5B-495D-9045-81EF666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D71AD-7E82-45D6-AFA2-FB76A20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DCF23-291A-42DE-91B8-47A85C5D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30866-3579-479A-AFB3-8A281826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B7C5B-B73A-42C2-A7BB-4D907EA6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22801-D2A6-4EDD-99F4-B44B052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1CAA5-E8A8-4B6B-AE7D-2E0281B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729E2-B021-43B6-9175-ED453B1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8C3A2-A03A-4545-98E7-F33B1BB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C5777-CA21-48DB-8955-4E355EB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BCBD9-2144-45C3-A9F2-FB787F8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C36-7B3E-4752-B07B-B92E361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95A1-7895-4C39-894F-EAA719C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A0FBE-81A4-442D-8A97-C337A69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6E65E-D888-4191-8B53-63D5740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68951-AB8F-42A2-A530-27DA373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8CB73-B24C-4F2D-A4B6-3BA6E6DF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51F86-5540-43A1-B181-1F8CD646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5164D-CB68-4647-9944-598E5C4A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D2EE5-8BBE-4D65-8477-A88EFC69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C6AE4-D168-4567-B2D6-EC2B958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41CCA-8B1F-4855-9D66-41E0C72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0F9B0-68E6-46D1-BB87-8AC7915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8B12-A49A-496A-A8E9-9CE36BE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BFD45-0E52-4CB6-8D1C-26EB6779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C56DE-1D84-48E5-AECC-90AA957A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2C55C-5185-40A0-ABFA-C3BD55B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1D7E1-D74D-4B64-84DB-C018FCA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4B762-0F00-4201-BDF8-F59F7F1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0D45E-DE1C-45EA-99FD-D3A021E8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F986C-F918-48E8-BD91-AA2EB2DF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61C7C-0F5A-4526-B1FA-83E74A13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D83C5-E615-4EC4-A893-6E90F397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DD357-A6DC-4723-9E0E-36C202A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3360-EF55-4FAD-BC22-88DF207A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72B25-D1AF-4F84-B5DC-4CE6C2A7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F3DD4-C9CD-4AD7-B98E-4A32198D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5811C-D3A8-4E20-8D26-4C8EC4D8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A9093-97F4-420D-A4E9-244C561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C852C-93F9-4732-815C-6B31AD9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82CB1-8196-48B7-83E3-33616F1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7AB2E-39A1-43DF-8B94-17A2CBC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A1410-FC41-4568-BBD3-B7CC1DE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4B94A-817E-4657-BFCF-A4184A5D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37A160-32DE-4B97-AC80-1B4F2C63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F29F-71FF-4FED-A273-09BD8606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0EB342-46D2-4461-941E-7F3A665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3AEDCE-B669-46AE-9AE5-6FE39A8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66E801-3017-42AF-90FC-881AFBC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2B2F54-64A4-4A8C-8601-C1779DCA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C9A026-FF64-4D65-BD53-41B20CA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399070-2C5B-4E01-A53F-A626393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2CC55F-78E7-4065-A681-67F0743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C274AE-BFDC-4FD8-8657-A2B4C86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A416C9-B40B-44AC-97C7-E116989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260A03-C67A-4AB0-8E3D-9A315F37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F045-3C1C-4076-810E-BA85612A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F298E9-79EC-48A7-B5FC-3331D55C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5AD3B-3A94-40C4-B610-60D9D2EA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A777B-58BF-4FEC-86D4-C34F14C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BA38E-2A2F-4BAA-8118-5618F35C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630DD-B47A-40F9-933F-8D90476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E3505-BEB5-4EF0-914A-79B99350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E4323-845D-4AC3-80F2-507428F0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95F11-5614-4321-9554-092ED0E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EB620-512E-41D2-9FCF-1EFBDDB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9BFEF-E58D-46DB-B2EF-C428236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522E-2779-4FE6-B17E-EF2FC78F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9C174-607A-446A-B9AD-CA5C449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C7AC7-BDA0-4C24-BFCD-498CF785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23DB6-1770-4EBF-85B9-EF1C65BA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70D5DB-A029-4474-87AC-CB9F1E2E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A85CA-03D7-4E80-A68B-05E953F5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3A9DF-80DC-4D08-AABD-8C8EBC0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62A89-57AC-4907-ABA3-58756CCC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1DF834-4BB7-45ED-BE45-BB1256A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76BDF-66E8-409C-B049-9D44F453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B34BE-C66A-4016-9693-A56DD5D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6114-C641-4FD1-BC01-6131FE1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67C96-8985-4AAD-B4AA-920441D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8B9FF6-204F-4441-A429-765AC2E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8AEE7-2EE9-4A17-A150-9220B844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9DFBD-EC7B-4B18-839B-52F6E59E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816E9-E526-4E6A-92DB-A6050F60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0E66F-0995-4EF9-A9E0-5521626B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F5785-28D4-4839-A8C1-1431ABB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00A70-8B7D-435F-938D-D404E3D7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698A6-F308-4A96-B984-3C1CC983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E586E-81B9-4FDB-89F7-698CD14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223A-224A-4453-A9DE-B4113EB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79725-BC56-4B46-A3F9-7D23E99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3A0FE2-CD07-40E6-9E4B-58BFA39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24D153-215C-4262-AF7F-A4E4689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5B628-1D28-4CC8-A5BD-0BD6BC2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CB39C-E29D-4792-81F0-BA7637C2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DC77B7-1529-454D-B9E8-82D57A5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7FE76-5983-472D-ADAA-A8C0AF03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C529-5D17-4FC8-92CF-05AB6BF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4B0F-95E4-482A-8DA3-F0C54B3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B85-05D0-4B8C-B479-B2BE40E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C6FB-C1E0-4183-9160-1F72871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7CF7-AD73-4CC1-BA48-0DA85D0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FDC1-89DA-44DB-9D30-40590C3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7F8A-F43E-487E-80A6-6992F33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9C89-A59F-4748-97B5-41ED1EDC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4CAA-1491-48CE-9B2D-8F28892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CD53-E32C-45F3-909D-D268FBB1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6E28-E10B-490A-B9F7-C3E42BBD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87DC-A6FE-41B9-AAA6-302FC33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4F87-9661-453B-9FA9-B947B5F1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FA2-6B53-4D34-BB86-B1F63729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6DEA-959C-4F0A-9A60-E95F69A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033A-4A50-4125-BC2C-77F78E41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7A66-2ADF-486C-915C-98D08CCF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C531-1C57-44B7-8150-BBD50A5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0462-4311-4C4D-BF64-C5862DE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43C9-FD60-45D9-8C2F-260E2AC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4C08-9862-492D-B883-AAAD13C6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C4CE-131D-49A5-9E84-AD563409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1D45-46D7-4D1A-8C42-1B5EC30E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41711-5462-4C87-A701-E4D4E4E8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A11-9B7E-4C3F-A01D-7ED1BB0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5312-0F72-48D3-A0A5-0FBC7C58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11DA-6FC9-4D1C-A85E-4EC7DBC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D302-2CA1-4D8A-8A99-A44CD675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2C76-FFAB-45A8-9355-7F7F9C9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342A-0F07-41C5-9BEC-3C8EB22B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A936-C9C1-4903-8E03-D9BB426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046A-8065-4EEF-9841-8C6156E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AE10-F915-4F39-A179-E2033B2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0E33-19B3-4542-9EA4-EF76E80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3098-4117-4FE2-BB45-6A62829E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5DD-2799-48C4-AC20-99B7918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BA45-B1A0-48A9-A3C6-8D7036DF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47A4-1BE1-4259-B6CD-D700A4C3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90F3-63D3-422D-B181-577CEC34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E841-25D2-4133-8969-FC6375D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314D-B90F-4783-A8B3-4803D779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9032-C114-4B30-9085-193C5824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081C5-943A-4D39-9222-6979420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CC16-85B4-4942-BA5A-68C3FFA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7B68-F586-4EA8-A7F1-86F7C78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57E1-BCED-4C72-BFBB-6EE51D9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01C-B7E4-4FA9-A6EE-B62C7C1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0560-3233-4016-8139-168452EB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7371-B7F1-4D19-A94B-584C37B5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0A05-150A-4D02-8027-94D2BD00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F31C9-433E-43F7-8DA4-B20574BB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A1308-9C56-461C-AA50-386B6B1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EFF64-418C-45F2-97CC-636568A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CD4B1-27C2-4003-AEEF-A81B0A5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DA48E-F022-497F-9455-6B416AC0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98DED-4262-4263-A26E-83F72D6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B27BE-6CD0-45B8-BF91-77C9582E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06C-2681-417D-9CFF-5D3A92A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43830-E52D-4544-B4CC-026257D0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11983-CDFC-4E07-A0A0-53014C65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F604E-61F0-4067-B642-7206ECFE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84647-089D-4167-B542-16EB16C0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F5B39-916A-4FDF-94DE-0908079D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25A98-1A88-4C5A-B659-868E7BE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1BAE-EAB9-4A83-A079-C43F5E4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E16FA-894C-42BC-A72A-A19F1F1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FCC3F-2059-4240-91E6-0FFBBE6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9393-D4AF-4F3B-BBA7-009B6810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2A4-DEF3-4088-A4F4-DD2B0D1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2D08-6CE1-4E65-AAE6-CE4F26AE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C54C8-9DF0-46BA-9AF3-E56EEDA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753E2-B0E0-42F3-98D2-CFC98C5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19B8-4741-4771-9821-4AE276C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157AE-5414-4929-9F73-42425D5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DEAE-F63C-496B-B7CD-A3821B1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EC98-1A8F-4538-83E3-AE697537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65D55-A655-4651-A11E-D0A86903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AC5A-7940-4AD1-B95B-7D65730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C6A4D-192D-4CAB-93A4-42EDCEC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207-32EF-49E3-8D5D-AAE0A04D9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F9A4-1B98-48BB-97C9-AF70B50B28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9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0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6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8482-157F-4180-8CD6-243844C694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61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9D3-2E91-431E-96E5-68C5A3EB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7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39E-5EFE-4DFF-9113-E1524B7D6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38BB-40C0-4BAB-B750-8566BA568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3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3A16-00CC-4E39-9353-7513DD0C12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dt" idx="4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ftr" idx="4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1CA-4F19-44A3-A0A2-6A046EB6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dt" idx="4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ftr" idx="5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2E3-8BDE-45A7-A438-CDC25F12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D69F-B0B3-4908-B3E2-ADA73D183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FEA-065F-42B7-995B-E5642C315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E20-9E42-4A99-BD34-BC12BB6322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dt" idx="5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798-2683-4D54-B737-C80910B60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6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6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6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ftr" idx="6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sldNum" idx="6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25A-CA39-471E-8BCF-1B042A50B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250-71B3-41C1-94AF-90C1B85EB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5B0-F957-4046-BBEF-056D49E8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DEC-7616-41B8-B0C8-9093C62CFC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D6DB-DEAC-4CEA-BE35-81E2681B3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C40-2AF8-41B8-BA6B-AD57D3C20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FDE-C815-4924-A7C0-344547E8A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DAF-DED4-4205-AF71-B1C9A5A2C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ABE-AE8C-4713-8BC6-DD46C571B0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069-8FE3-4857-8771-E04D3018DB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il_f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1824" name=""/>
          <p:cNvSpPr txBox="1"/>
          <p:nvPr/>
        </p:nvSpPr>
        <p:spPr>
          <a:xfrm>
            <a:off x="755640" y="115920"/>
            <a:ext cx="763272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the solar system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00"/>
                </a:solidFill>
                <a:latin typeface="Garamond"/>
              </a:rPr>
              <a:t>Ura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Garamond"/>
              </a:rPr>
              <a:t>Uranus is a huge spinning ball of gas covered with clou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Garamond"/>
              </a:rPr>
              <a:t>The wind speeds on Uranus can reach 250 metres per second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3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3717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Neptune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3840"/>
          </a:xfrm>
          <a:prstGeom prst="rect">
            <a:avLst/>
          </a:prstGeom>
          <a:ln w="0">
            <a:noFill/>
          </a:ln>
        </p:spPr>
      </p:pic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eptune is the stormiest planet with winds up to 2,400 km/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It was Discovered on September 23 184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286160" cy="4276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"/>
              </a:rPr>
              <a:t>Light speed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4039920" cy="217152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2"/>
          <a:stretch/>
        </p:blipFill>
        <p:spPr>
          <a:xfrm>
            <a:off x="455760" y="3924360"/>
            <a:ext cx="4039920" cy="217152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641480" y="1598760"/>
            <a:ext cx="4040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Asteroids are large rocks left over from the formation of the solar syste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Comets are made of dust and ice, as the comet travels bits fly off it   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2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3405240" cy="2162160"/>
          </a:xfrm>
          <a:prstGeom prst="rect">
            <a:avLst/>
          </a:prstGeom>
          <a:ln w="0">
            <a:noFill/>
          </a:ln>
        </p:spPr>
      </p:pic>
      <p:pic>
        <p:nvPicPr>
          <p:cNvPr id="1863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4176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Thank you for listening</a:t>
            </a:r>
            <a:r>
              <a:rPr b="0" lang="en-NZ" sz="4400" spc="-1" strike="noStrike">
                <a:solidFill>
                  <a:srgbClr val="007d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7200" spc="-1" strike="noStrike">
                <a:solidFill>
                  <a:srgbClr val="00ff00"/>
                </a:solidFill>
                <a:latin typeface="Showcard Gothic"/>
              </a:rPr>
              <a:t>the su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Lucida Handwriting"/>
              </a:rPr>
              <a:t>The sun  is the star at the centre of the solar syste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Lucida Handwriting"/>
              </a:rPr>
              <a:t>The sun fuses 620 million metric tons of hydrogen each second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24980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Forte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3348000" y="1828800"/>
            <a:ext cx="531504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ff00"/>
                </a:solidFill>
                <a:latin typeface="Lucida Handwriting"/>
              </a:rPr>
              <a:t>The moon is earths only natural satellite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ff00"/>
                </a:solidFill>
                <a:latin typeface="Lucida Handwriting"/>
              </a:rPr>
              <a:t>After the  Apollo 17 mission in 1972 the moon has been visited  only by unmanned spacecraf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3847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Bookman Old Style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Castellar"/>
              </a:rPr>
              <a:t>Mercury is the closest plane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Castellar"/>
              </a:rPr>
              <a:t>It has virtually no atmosp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03848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364000" y="1981080"/>
            <a:ext cx="34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Berlin Sans FB"/>
              </a:rPr>
              <a:t>Venus is the hottest planet because it’s cloud’s trap the sun’s he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Berlin Sans FB"/>
              </a:rPr>
              <a:t>The planet is named after Venus the roman goddess of love and beau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53708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Earth is mostly covered by water and is the only planet known to support 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Earth orbit’s the sun once every 366.26 times it rotates about it’s own axis witch is equal to 365.26 solar day’s or one yea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49568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386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3" name="hamme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Tahoma"/>
              </a:rPr>
              <a:t>ma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Mars has a thin atmosphere of poisonous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The planet is named after roman god of war mars is often described as the red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2"/>
          <a:stretch/>
        </p:blipFill>
        <p:spPr>
          <a:xfrm>
            <a:off x="590400" y="2395440"/>
            <a:ext cx="37720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00"/>
                </a:solidFill>
                <a:latin typeface="Arial Black"/>
              </a:rPr>
              <a:t>Jupi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Jupiter is the largest planet and has 16 major mo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The roman’s named the planet after the roman god Jupi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1"/>
          <a:stretch/>
        </p:blipFill>
        <p:spPr>
          <a:xfrm>
            <a:off x="4572000" y="2058840"/>
            <a:ext cx="424512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ff"/>
                </a:solidFill>
                <a:latin typeface="Tahoma"/>
              </a:rPr>
              <a:t>Satur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0" y="206064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Tahoma"/>
              </a:rPr>
              <a:t>Saturn is the second largest planet and has rings made of ice and roc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Tahoma"/>
              </a:rPr>
              <a:t>Saturn has nine ring’s ,Saturn has an average radius about 9 time’s larger tha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1339920" y="3117960"/>
            <a:ext cx="3109680" cy="2498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7:55:10Z</dcterms:created>
  <dc:creator>Adiel</dc:creator>
  <dc:description/>
  <dc:language>en-US</dc:language>
  <cp:lastModifiedBy>Adiel</cp:lastModifiedBy>
  <dcterms:modified xsi:type="dcterms:W3CDTF">2011-07-07T07:41:17Z</dcterms:modified>
  <cp:revision>5</cp:revision>
  <dc:subject/>
  <dc:title>Slide 1</dc:title>
</cp:coreProperties>
</file>